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2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B58-0A5D-49AD-B433-B0234A17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CD5-6081-408D-B13A-40762B8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3F7-F737-484E-9EEB-FAF1E744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B23-3E46-4879-A4C1-8104810D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F00-76C4-4FFD-BA97-FF34A28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328-C10E-4635-9C03-5E28D1A5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AEE-DD0C-44C3-8113-BF9AF601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1F4-D187-41DA-B964-1BA84916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33D-834C-4C05-86DE-441F014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AFC-A500-47B4-BE31-50F9B9F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BED-91D2-4538-869D-B3F35F5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5D7-B0B0-488D-B6AB-16954100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2D30-F33A-4846-9C1B-D853598A5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hyz.org/" TargetMode="External"/><Relationship Id="rId2" Type="http://schemas.openxmlformats.org/officeDocument/2006/relationships/image" Target="../media/image17.gif"/><Relationship Id="rId3" Type="http://schemas.openxmlformats.org/officeDocument/2006/relationships/slide" Target="slide15.xml"/><Relationship Id="rId4" Type="http://schemas.openxmlformats.org/officeDocument/2006/relationships/image" Target="../media/image17.gif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image" Target="../media/image17.gif"/><Relationship Id="rId8" Type="http://schemas.openxmlformats.org/officeDocument/2006/relationships/hyperlink" Target="http://www.nhyz.org/" TargetMode="External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7.gif"/><Relationship Id="rId3" Type="http://schemas.openxmlformats.org/officeDocument/2006/relationships/hyperlink" Target="http://www.nhyz.org/" TargetMode="Externa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7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hyz.org/" TargetMode="External"/><Relationship Id="rId2" Type="http://schemas.openxmlformats.org/officeDocument/2006/relationships/image" Target="../media/image17.gif"/><Relationship Id="rId3" Type="http://schemas.openxmlformats.org/officeDocument/2006/relationships/slide" Target="slide15.xml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149220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 四大文明古国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四大文明古都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20968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古巴比伦，古埃及，古印度和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930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西安、开罗、雅典、罗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0"/>
            <a:ext cx="2361960" cy="10666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班会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71840" y="31240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思“小毛病”争做文明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6920" y="3273480"/>
            <a:ext cx="297000" cy="30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14600" y="2057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化校园环境”争做“文明学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2209680"/>
            <a:ext cx="297000" cy="3081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2590920" y="9907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诠释文明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17600" y="1219320"/>
            <a:ext cx="297000" cy="30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092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明礼仪知多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0" y="4264200"/>
            <a:ext cx="297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60200" y="1219320"/>
            <a:ext cx="2735280" cy="4038480"/>
            <a:chOff x="160200" y="1219320"/>
            <a:chExt cx="2735280" cy="4038480"/>
          </a:xfrm>
        </p:grpSpPr>
        <p:sp>
          <p:nvSpPr>
            <p:cNvPr id="91" name=""/>
            <p:cNvSpPr/>
            <p:nvPr/>
          </p:nvSpPr>
          <p:spPr>
            <a:xfrm>
              <a:off x="372960" y="2773440"/>
              <a:ext cx="229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诠释文明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60200" y="2968560"/>
              <a:ext cx="2970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90920" y="1219320"/>
              <a:ext cx="304560" cy="40384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156"/>
                  </a:lnTo>
                  <a:cubicBezTo>
                    <a:pt x="10800" y="9056"/>
                    <a:pt x="5400" y="9956"/>
                    <a:pt x="0" y="9956"/>
                  </a:cubicBezTo>
                  <a:cubicBezTo>
                    <a:pt x="5400" y="9956"/>
                    <a:pt x="10800" y="10856"/>
                    <a:pt x="10800" y="117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971800" y="1066680"/>
            <a:ext cx="2362320" cy="609840"/>
            <a:chOff x="2971800" y="1066680"/>
            <a:chExt cx="2362320" cy="609840"/>
          </a:xfrm>
        </p:grpSpPr>
        <p:sp>
          <p:nvSpPr>
            <p:cNvPr id="95" name=""/>
            <p:cNvSpPr/>
            <p:nvPr/>
          </p:nvSpPr>
          <p:spPr>
            <a:xfrm>
              <a:off x="2971800" y="1066680"/>
              <a:ext cx="16002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1800" y="10810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心理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71800" y="2362320"/>
            <a:ext cx="2666880" cy="609480"/>
            <a:chOff x="2971800" y="2362320"/>
            <a:chExt cx="2666880" cy="609480"/>
          </a:xfrm>
        </p:grpSpPr>
        <p:sp>
          <p:nvSpPr>
            <p:cNvPr id="98" name=""/>
            <p:cNvSpPr/>
            <p:nvPr/>
          </p:nvSpPr>
          <p:spPr>
            <a:xfrm>
              <a:off x="2971800" y="2362320"/>
              <a:ext cx="15998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71800" y="23763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行为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971800" y="3733920"/>
            <a:ext cx="2133720" cy="609480"/>
            <a:chOff x="2971800" y="3733920"/>
            <a:chExt cx="2133720" cy="609480"/>
          </a:xfrm>
        </p:grpSpPr>
        <p:sp>
          <p:nvSpPr>
            <p:cNvPr id="101" name=""/>
            <p:cNvSpPr/>
            <p:nvPr/>
          </p:nvSpPr>
          <p:spPr>
            <a:xfrm>
              <a:off x="2971800" y="3733920"/>
              <a:ext cx="16002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37339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语言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724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重文明礼仪，健全自我人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熟人格六要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/>
          </p:cNvPr>
          <p:cNvSpPr/>
          <p:nvPr/>
        </p:nvSpPr>
        <p:spPr>
          <a:xfrm>
            <a:off x="4800600" y="16002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http://www.nhyz.org/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德育之窗礼仪教育、德育文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429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欣赏南海一中第二届语言艺术节图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4648320" y="38862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明人会自动放弃一些不文明用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648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4667400" y="4343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明用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71800" y="4952880"/>
            <a:ext cx="2133720" cy="609480"/>
            <a:chOff x="2971800" y="4952880"/>
            <a:chExt cx="2133720" cy="609480"/>
          </a:xfrm>
        </p:grpSpPr>
        <p:sp>
          <p:nvSpPr>
            <p:cNvPr id="111" name=""/>
            <p:cNvSpPr/>
            <p:nvPr/>
          </p:nvSpPr>
          <p:spPr>
            <a:xfrm>
              <a:off x="2971800" y="4952880"/>
              <a:ext cx="16002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952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网络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648320" y="5029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青少年网络文明公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474336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普通市民“六不”规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4724280" y="76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健康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188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914400" y="1447920"/>
            <a:ext cx="731520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普通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市民“六不”规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不随地吐痰；　　　不损坏公物；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不乱倒垃圾；　　　不乱停车辆；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不挤占楼道；　　　不乱穿马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219320" y="1219320"/>
            <a:ext cx="6518880" cy="4359240"/>
            <a:chOff x="1219320" y="1219320"/>
            <a:chExt cx="6518880" cy="4359240"/>
          </a:xfrm>
        </p:grpSpPr>
        <p:sp>
          <p:nvSpPr>
            <p:cNvPr id="121" name=""/>
            <p:cNvSpPr/>
            <p:nvPr/>
          </p:nvSpPr>
          <p:spPr>
            <a:xfrm>
              <a:off x="1219320" y="1219320"/>
              <a:ext cx="3581280" cy="43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您好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进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坐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稍等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问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讲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让您久等了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53680" y="1495440"/>
              <a:ext cx="26845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对不起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9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原谅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很抱歉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没关系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别客气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这是我应该做的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谢谢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再见，请走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76720" y="66996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·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文明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586728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9576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052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33440" y="1600200"/>
            <a:ext cx="7529400" cy="4648320"/>
            <a:chOff x="1333440" y="1600200"/>
            <a:chExt cx="7529400" cy="4648320"/>
          </a:xfrm>
        </p:grpSpPr>
        <p:pic>
          <p:nvPicPr>
            <p:cNvPr id="130" name="gy3" descr=""/>
            <p:cNvPicPr/>
            <p:nvPr/>
          </p:nvPicPr>
          <p:blipFill>
            <a:blip r:embed="rId2"/>
            <a:stretch/>
          </p:blipFill>
          <p:spPr>
            <a:xfrm>
              <a:off x="2666880" y="1600200"/>
              <a:ext cx="619596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gy2" descr=""/>
            <p:cNvPicPr/>
            <p:nvPr/>
          </p:nvPicPr>
          <p:blipFill>
            <a:blip r:embed="rId3"/>
            <a:stretch/>
          </p:blipFill>
          <p:spPr>
            <a:xfrm>
              <a:off x="1333440" y="1600200"/>
              <a:ext cx="1333440" cy="464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8108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60199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04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专家论点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06668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的人会自动放弃一些不文明的用语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－－访郑新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郑新蓉，北京师范大学教育系副主任，教育学博士，副教授。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1994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年至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1995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年在加拿大多伦多大学教育学院进修，其主要研究领域有：中国基础教育及改革、教育法与教育政策、性别教育及青少年研究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56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  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人们的观念改变了以后，人们会自动放弃一些不文明的语言。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前，我们把身有残疾的人称为“残废”，后来人们的观念发生了变化，觉得“残”未必就是“废”，于是开始称他们为“残疾人”，再后来又改为“有特殊需要的人”，以前叫残奥会，现在叫特奥会。为什么会有这些变化？这说明人们的观念在发生变化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79404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#  ------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西方过去把黑人都叫“黑鬼”，但现在人们已经意识到这个词语是不文明的，当这个词一出现，人们就会觉得它带有歧视的意味，因此很少有人用这个词了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-------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657600"/>
            <a:ext cx="8153280" cy="2133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28600"/>
            <a:ext cx="8001000" cy="31240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1722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76320" y="2438280"/>
            <a:ext cx="3581280" cy="1524240"/>
            <a:chOff x="76320" y="2438280"/>
            <a:chExt cx="3581280" cy="1524240"/>
          </a:xfrm>
        </p:grpSpPr>
        <p:sp>
          <p:nvSpPr>
            <p:cNvPr id="144" name=""/>
            <p:cNvSpPr/>
            <p:nvPr/>
          </p:nvSpPr>
          <p:spPr>
            <a:xfrm>
              <a:off x="76320" y="2438280"/>
              <a:ext cx="3581280" cy="1524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52280" y="2498760"/>
              <a:ext cx="3353040" cy="1323000"/>
              <a:chOff x="152280" y="2498760"/>
              <a:chExt cx="3353040" cy="132300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200" y="2498760"/>
                <a:ext cx="304812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“</a:t>
                </a: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优化校园环境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争做“文明学生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7" name="" descr="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52280" y="2990520"/>
                <a:ext cx="297000" cy="30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8" name=""/>
          <p:cNvGrpSpPr/>
          <p:nvPr/>
        </p:nvGrpSpPr>
        <p:grpSpPr>
          <a:xfrm>
            <a:off x="4114800" y="1600200"/>
            <a:ext cx="4419720" cy="685800"/>
            <a:chOff x="4114800" y="1600200"/>
            <a:chExt cx="4419720" cy="685800"/>
          </a:xfrm>
        </p:grpSpPr>
        <p:sp>
          <p:nvSpPr>
            <p:cNvPr id="149" name=""/>
            <p:cNvSpPr/>
            <p:nvPr/>
          </p:nvSpPr>
          <p:spPr>
            <a:xfrm>
              <a:off x="4114800" y="1600200"/>
              <a:ext cx="4419720" cy="685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8600" y="1623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一是优化校园学习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38480" y="2666880"/>
            <a:ext cx="4419720" cy="685800"/>
            <a:chOff x="4038480" y="2666880"/>
            <a:chExt cx="4419720" cy="685800"/>
          </a:xfrm>
        </p:grpSpPr>
        <p:sp>
          <p:nvSpPr>
            <p:cNvPr id="152" name=""/>
            <p:cNvSpPr/>
            <p:nvPr/>
          </p:nvSpPr>
          <p:spPr>
            <a:xfrm>
              <a:off x="4038480" y="2666880"/>
              <a:ext cx="4419720" cy="685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2480" y="269064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二是优化校园生活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3809880"/>
            <a:ext cx="4419720" cy="685800"/>
            <a:chOff x="4114800" y="3809880"/>
            <a:chExt cx="4419720" cy="685800"/>
          </a:xfrm>
        </p:grpSpPr>
        <p:sp>
          <p:nvSpPr>
            <p:cNvPr id="155" name=""/>
            <p:cNvSpPr/>
            <p:nvPr/>
          </p:nvSpPr>
          <p:spPr>
            <a:xfrm>
              <a:off x="4114800" y="3809880"/>
              <a:ext cx="4419720" cy="685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8520" y="384624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三是优化校园人际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1374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848720" y="60958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迟到（包括早操），不早退，不旷课，出勤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53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上课时要专心听讲，积极思维，主动摄取科学文化知识，独立认真完成作业。体现学习的主体性和主动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06560" y="2378160"/>
            <a:ext cx="79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学习中要形成良好的、健康的、友好的竟争。要互帮互学，共同进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232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多读健康有益的书刊，扩大知识面。不看内容不健康的书籍，自觉拒绝访问色情、暴力、邪教的网站，提高辩别是非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4572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课间要文明休息，不要在教学楼道嬉戏、哄闹或打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25924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自习课要保持安静，做到有老师无老师一个样，养成自觉遵守纪律和独立学习的习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1219320"/>
            <a:ext cx="990720" cy="4038480"/>
            <a:chOff x="0" y="1219320"/>
            <a:chExt cx="990720" cy="4038480"/>
          </a:xfrm>
        </p:grpSpPr>
        <p:sp>
          <p:nvSpPr>
            <p:cNvPr id="166" name=""/>
            <p:cNvSpPr/>
            <p:nvPr/>
          </p:nvSpPr>
          <p:spPr>
            <a:xfrm>
              <a:off x="228600" y="1600200"/>
              <a:ext cx="533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优化校园学习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219320"/>
              <a:ext cx="990720" cy="40384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52280" y="990720"/>
            <a:ext cx="990720" cy="4038480"/>
            <a:chOff x="152280" y="990720"/>
            <a:chExt cx="990720" cy="4038480"/>
          </a:xfrm>
        </p:grpSpPr>
        <p:sp>
          <p:nvSpPr>
            <p:cNvPr id="170" name=""/>
            <p:cNvSpPr/>
            <p:nvPr/>
          </p:nvSpPr>
          <p:spPr>
            <a:xfrm>
              <a:off x="380880" y="1371600"/>
              <a:ext cx="533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优化校园生活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280" y="990720"/>
              <a:ext cx="990720" cy="40384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19320" y="457344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宿舍内要保持“安静、安全”，窗明几净，把宿舍真正建成住校生的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853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校园内佩带好胸章，发式和服式符合中学生的要求，仪表端正和讲究个人卫生，体现一中学生良好的气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844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自觉维护校园内的清洁卫生，不乱丢废弃物，不随地吐痰。对乱丢乱吐现象要坚决制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71800" y="2895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任何场所不抽烟不喝酒，对违犯者要坚决举报和制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597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逃操、不翻墙、不打骚扰电话、不践踏草坪，对违犯《中学生日常行为规范》的不良行为要坚决举报和制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16779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西安、开罗、雅典、罗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称为世界著名四大文明古都，四座城市的历史浓缩了整个人类文明的发展史，东、西两方不同文化的深邃同时吸引着世人的注目，辉煌灿烂的黄河华夏文明、尼罗河文明、美索不达美亚文明、印度河文明、希伯来文化创造了人类历史文明的每一个亮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52280" y="990720"/>
            <a:ext cx="990720" cy="4038480"/>
            <a:chOff x="152280" y="990720"/>
            <a:chExt cx="990720" cy="4038480"/>
          </a:xfrm>
        </p:grpSpPr>
        <p:sp>
          <p:nvSpPr>
            <p:cNvPr id="179" name=""/>
            <p:cNvSpPr/>
            <p:nvPr/>
          </p:nvSpPr>
          <p:spPr>
            <a:xfrm>
              <a:off x="380880" y="1371600"/>
              <a:ext cx="533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优化校园人际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280" y="990720"/>
              <a:ext cx="990720" cy="40384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219320" y="506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诚实守信，做事待人要真诚公正，借了别人的钱物要及时归还，不以大欺小，建立良好的融洽的人际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28680" y="1066680"/>
            <a:ext cx="77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积极健康的心态，乐观向上的情绪，对人对事怀有一颗宽容的心、关爱的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22096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尊敬老师，见到老师要问好，进教师办公室要喊“报告”，不乱动老师桌上的物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举止得体，礼貌待人，不说脏话，校园内提倡说普通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同学之间要团结友爱，和睦相处，任何情况下不能发生打架现象，对违犯者要坚决举报和制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143000" y="685800"/>
            <a:ext cx="5333760" cy="581400"/>
            <a:chOff x="1143000" y="685800"/>
            <a:chExt cx="5333760" cy="581400"/>
          </a:xfrm>
        </p:grpSpPr>
        <p:sp>
          <p:nvSpPr>
            <p:cNvPr id="188" name=""/>
            <p:cNvSpPr/>
            <p:nvPr/>
          </p:nvSpPr>
          <p:spPr>
            <a:xfrm>
              <a:off x="1447560" y="685800"/>
              <a:ext cx="502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反思“小毛病”争做文明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834840"/>
              <a:ext cx="29664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1219320" y="3306600"/>
            <a:ext cx="7162200" cy="581400"/>
            <a:chOff x="1219320" y="3306600"/>
            <a:chExt cx="7162200" cy="581400"/>
          </a:xfrm>
        </p:grpSpPr>
        <p:sp>
          <p:nvSpPr>
            <p:cNvPr id="191" name=""/>
            <p:cNvSpPr/>
            <p:nvPr/>
          </p:nvSpPr>
          <p:spPr>
            <a:xfrm>
              <a:off x="1730520" y="3306600"/>
              <a:ext cx="665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祝同学们做一位诗心诗意的文明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458880"/>
              <a:ext cx="39852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2057400" y="1600200"/>
            <a:ext cx="6705720" cy="1297800"/>
            <a:chOff x="2057400" y="1600200"/>
            <a:chExt cx="6705720" cy="1297800"/>
          </a:xfrm>
        </p:grpSpPr>
        <p:sp>
          <p:nvSpPr>
            <p:cNvPr id="194" name=""/>
            <p:cNvSpPr/>
            <p:nvPr/>
          </p:nvSpPr>
          <p:spPr>
            <a:xfrm>
              <a:off x="2057400" y="160020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······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一位后进生的真情告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11560" y="2438280"/>
              <a:ext cx="55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http://www.nhyz.org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德育之窗班任之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391520" y="5943600"/>
            <a:ext cx="533160" cy="457200"/>
          </a:xfrm>
          <a:prstGeom prst="lef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828800" y="0"/>
            <a:ext cx="5257800" cy="1066680"/>
            <a:chOff x="1828800" y="0"/>
            <a:chExt cx="5257800" cy="1066680"/>
          </a:xfrm>
        </p:grpSpPr>
        <p:sp>
          <p:nvSpPr>
            <p:cNvPr id="198" name=""/>
            <p:cNvSpPr/>
            <p:nvPr/>
          </p:nvSpPr>
          <p:spPr>
            <a:xfrm>
              <a:off x="2514600" y="0"/>
              <a:ext cx="3581280" cy="106668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28800" y="22860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华文细黑"/>
                </a:rPr>
                <a:t>心理健康的标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9144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一个人的心理是否健康，主要是通过别人观察和自我观察，与别人心理相比较有何异同。表现情绪稳定，积极向上，没有不必要的紧张感。人的心理是通过各种活动形成和发展的，也通过日常活动表现出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76320" y="2514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在自己所处的环境中有充分的安全感。如果在生活、工作的环境中疑神疑鬼，过分敏感，对身边的人不信任，产生不安全感，这样的心理是不健康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8862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正确的评价自己。正确的认识和评价自己的优点和缺点，说明有自我意识，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健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标志。意识到自己对国家和社会的责任，能建设性地处理问题，有较强的社会适应能力，有正义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2592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能保持正常的人际关系。在集体中受到别人的欢迎和信任，有自己的朋友和同志，具有自信心，善于与别人交往，和睦相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积极的情绪多于消极的情绪。积极的情绪能提高人的活动水平，有利于自身的身心健康，热爱生活，具有同情心。消极情绪产生后应持续时间较短，通过社会心理支持或自我心理调节而解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228600" y="2209680"/>
            <a:ext cx="8915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有健全的人格和个性心理特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有正常的行为，行为和身份相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生活目标切合实际并不断进取，有理想和事业上的追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2209680"/>
            <a:chOff x="0" y="0"/>
            <a:chExt cx="9144000" cy="2209680"/>
          </a:xfrm>
        </p:grpSpPr>
        <p:grpSp>
          <p:nvGrpSpPr>
            <p:cNvPr id="208" name=""/>
            <p:cNvGrpSpPr/>
            <p:nvPr/>
          </p:nvGrpSpPr>
          <p:grpSpPr>
            <a:xfrm>
              <a:off x="0" y="0"/>
              <a:ext cx="9144000" cy="1295280"/>
              <a:chOff x="0" y="0"/>
              <a:chExt cx="9144000" cy="129528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685800" y="304920"/>
                <a:ext cx="198108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5280" y="76320"/>
                <a:ext cx="838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2209680" y="1523880"/>
              <a:ext cx="38102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文明礼仪知多少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33520" y="2514600"/>
            <a:ext cx="2590560" cy="685800"/>
            <a:chOff x="533520" y="2514600"/>
            <a:chExt cx="2590560" cy="68580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533520" y="2666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1066680" y="2514600"/>
              <a:ext cx="2057400" cy="685800"/>
              <a:chOff x="1066680" y="2514600"/>
              <a:chExt cx="2057400" cy="685800"/>
            </a:xfrm>
          </p:grpSpPr>
          <p:sp>
            <p:nvSpPr>
              <p:cNvPr id="216" name=""/>
              <p:cNvSpPr/>
              <p:nvPr/>
            </p:nvSpPr>
            <p:spPr>
              <a:xfrm>
                <a:off x="1066680" y="2514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66680" y="2552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称谓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533520" y="3505320"/>
            <a:ext cx="7162560" cy="581400"/>
            <a:chOff x="533520" y="3505320"/>
            <a:chExt cx="7162560" cy="581400"/>
          </a:xfrm>
        </p:grpSpPr>
        <p:sp>
          <p:nvSpPr>
            <p:cNvPr id="219" name=""/>
            <p:cNvSpPr/>
            <p:nvPr/>
          </p:nvSpPr>
          <p:spPr>
            <a:xfrm>
              <a:off x="533520" y="3505320"/>
              <a:ext cx="716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同学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8480" y="39625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3520" y="4419720"/>
            <a:ext cx="6933960" cy="581400"/>
            <a:chOff x="533520" y="4419720"/>
            <a:chExt cx="6933960" cy="581400"/>
          </a:xfrm>
        </p:grpSpPr>
        <p:sp>
          <p:nvSpPr>
            <p:cNvPr id="222" name=""/>
            <p:cNvSpPr/>
            <p:nvPr/>
          </p:nvSpPr>
          <p:spPr>
            <a:xfrm>
              <a:off x="533520" y="4419720"/>
              <a:ext cx="69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老师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8480" y="48769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3520" y="5257800"/>
            <a:ext cx="6476760" cy="581400"/>
            <a:chOff x="533520" y="5257800"/>
            <a:chExt cx="6476760" cy="581400"/>
          </a:xfrm>
        </p:grpSpPr>
        <p:sp>
          <p:nvSpPr>
            <p:cNvPr id="225" name=""/>
            <p:cNvSpPr/>
            <p:nvPr/>
          </p:nvSpPr>
          <p:spPr>
            <a:xfrm>
              <a:off x="533520" y="525780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学生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571500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19720" y="3321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同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先生 恩师  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5105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门生  受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33520" y="1859040"/>
            <a:ext cx="7010280" cy="581400"/>
            <a:chOff x="533520" y="1859040"/>
            <a:chExt cx="7010280" cy="581400"/>
          </a:xfrm>
        </p:grpSpPr>
        <p:sp>
          <p:nvSpPr>
            <p:cNvPr id="231" name=""/>
            <p:cNvSpPr/>
            <p:nvPr/>
          </p:nvSpPr>
          <p:spPr>
            <a:xfrm>
              <a:off x="533520" y="185904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对方母亲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0600" y="23623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33520" y="2925720"/>
            <a:ext cx="7010280" cy="581400"/>
            <a:chOff x="533520" y="2925720"/>
            <a:chExt cx="7010280" cy="581400"/>
          </a:xfrm>
        </p:grpSpPr>
        <p:sp>
          <p:nvSpPr>
            <p:cNvPr id="234" name=""/>
            <p:cNvSpPr/>
            <p:nvPr/>
          </p:nvSpPr>
          <p:spPr>
            <a:xfrm>
              <a:off x="533520" y="292572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岳父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600" y="335268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419720" y="4830840"/>
            <a:ext cx="4267080" cy="581400"/>
            <a:chOff x="4419720" y="4830840"/>
            <a:chExt cx="4267080" cy="581400"/>
          </a:xfrm>
        </p:grpSpPr>
        <p:sp>
          <p:nvSpPr>
            <p:cNvPr id="237" name=""/>
            <p:cNvSpPr/>
            <p:nvPr/>
          </p:nvSpPr>
          <p:spPr>
            <a:xfrm>
              <a:off x="4419720" y="48308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回答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43600" y="53341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992400"/>
            <a:ext cx="7772400" cy="581400"/>
            <a:chOff x="533520" y="3992400"/>
            <a:chExt cx="7772400" cy="581400"/>
          </a:xfrm>
        </p:grpSpPr>
        <p:sp>
          <p:nvSpPr>
            <p:cNvPr id="240" name=""/>
            <p:cNvSpPr/>
            <p:nvPr/>
          </p:nvSpPr>
          <p:spPr>
            <a:xfrm>
              <a:off x="533520" y="3992400"/>
              <a:ext cx="58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请问对方姓什么，应说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62720" y="44197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944640"/>
            <a:ext cx="7010280" cy="581400"/>
            <a:chOff x="533520" y="944640"/>
            <a:chExt cx="7010280" cy="581400"/>
          </a:xfrm>
        </p:grpSpPr>
        <p:sp>
          <p:nvSpPr>
            <p:cNvPr id="243" name=""/>
            <p:cNvSpPr/>
            <p:nvPr/>
          </p:nvSpPr>
          <p:spPr>
            <a:xfrm>
              <a:off x="533520" y="94464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对方父亲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14479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410080" y="762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1644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2635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泰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778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贵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4616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免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3520" y="228600"/>
            <a:ext cx="2590560" cy="685800"/>
            <a:chOff x="533520" y="228600"/>
            <a:chExt cx="2590560" cy="68580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"/>
            <p:cNvGrpSpPr/>
            <p:nvPr/>
          </p:nvGrpSpPr>
          <p:grpSpPr>
            <a:xfrm>
              <a:off x="1066680" y="228600"/>
              <a:ext cx="2057400" cy="685800"/>
              <a:chOff x="1066680" y="228600"/>
              <a:chExt cx="2057400" cy="685800"/>
            </a:xfrm>
          </p:grpSpPr>
          <p:sp>
            <p:nvSpPr>
              <p:cNvPr id="253" name=""/>
              <p:cNvSpPr/>
              <p:nvPr/>
            </p:nvSpPr>
            <p:spPr>
              <a:xfrm>
                <a:off x="106668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6668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称谓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28600" y="228600"/>
            <a:ext cx="2590560" cy="685800"/>
            <a:chOff x="228600" y="228600"/>
            <a:chExt cx="2590560" cy="6858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22860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61760" y="228600"/>
              <a:ext cx="2057400" cy="685800"/>
              <a:chOff x="761760" y="228600"/>
              <a:chExt cx="2057400" cy="685800"/>
            </a:xfrm>
          </p:grpSpPr>
          <p:sp>
            <p:nvSpPr>
              <p:cNvPr id="258" name=""/>
              <p:cNvSpPr/>
              <p:nvPr/>
            </p:nvSpPr>
            <p:spPr>
              <a:xfrm>
                <a:off x="76176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176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绅士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304920" y="1066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士陪同女士上街时，女士行走在男士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1004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1800" y="1828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上楼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行；下楼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女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男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666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旅行时，靠窗口的座位都是让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666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女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41911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女结伴外出，男士应帮助女士，如帮拿行李等，但只有一样东西男士永远不能拿，那就是女士手上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小提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3505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女握手时，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伸出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34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男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2280" y="873000"/>
            <a:ext cx="609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空就抽烟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天皱着眉头，对事事不满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领子上的污垢永远也洗不净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纹眉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红涂得不匀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睡衣上街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破长统袜的女人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00440" y="166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种女人最不讨人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990720"/>
            <a:ext cx="7815240" cy="6256440"/>
            <a:chOff x="1066680" y="990720"/>
            <a:chExt cx="7815240" cy="6256440"/>
          </a:xfrm>
        </p:grpSpPr>
        <p:sp>
          <p:nvSpPr>
            <p:cNvPr id="274" name=""/>
            <p:cNvSpPr/>
            <p:nvPr/>
          </p:nvSpPr>
          <p:spPr>
            <a:xfrm>
              <a:off x="5488920" y="3495600"/>
              <a:ext cx="2052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喜欢教训人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朝三暮四、心思太花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买完东西总是要退要换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故意翘兰花指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不分场合乱发嗲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说话爱唠叨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爱说脏话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得理不饶人的女人。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1066680" y="3809880"/>
              <a:ext cx="2667240" cy="222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6172200" y="990720"/>
              <a:ext cx="2709720" cy="20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2057400" y="5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058560" y="4146480"/>
            <a:ext cx="6390360" cy="2180520"/>
            <a:chOff x="3058560" y="4146480"/>
            <a:chExt cx="6390360" cy="2180520"/>
          </a:xfrm>
        </p:grpSpPr>
        <p:sp>
          <p:nvSpPr>
            <p:cNvPr id="279" name=""/>
            <p:cNvSpPr/>
            <p:nvPr/>
          </p:nvSpPr>
          <p:spPr>
            <a:xfrm>
              <a:off x="3352680" y="4146480"/>
              <a:ext cx="609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喜欢诉苦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6600" y="47242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公交车上大声说话的女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58560" y="5257800"/>
              <a:ext cx="35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爱做“小喇叭”到处散播别人隐私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73160" y="5867280"/>
              <a:ext cx="191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自己的小手包也要让身边 男人背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045440" y="3048120"/>
            <a:ext cx="6283800" cy="535680"/>
            <a:chOff x="1045440" y="3048120"/>
            <a:chExt cx="6283800" cy="535680"/>
          </a:xfrm>
        </p:grpSpPr>
        <p:sp>
          <p:nvSpPr>
            <p:cNvPr id="284" name=""/>
            <p:cNvSpPr/>
            <p:nvPr/>
          </p:nvSpPr>
          <p:spPr>
            <a:xfrm>
              <a:off x="1045440" y="3124080"/>
              <a:ext cx="30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上戒指超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的女人。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73760" y="304812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常炫耀自己男人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-360" y="3200400"/>
            <a:ext cx="480060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800240" y="0"/>
            <a:ext cx="43434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867760" y="304920"/>
            <a:ext cx="3332160" cy="2364480"/>
            <a:chOff x="2867760" y="304920"/>
            <a:chExt cx="3332160" cy="2364480"/>
          </a:xfrm>
        </p:grpSpPr>
        <p:sp>
          <p:nvSpPr>
            <p:cNvPr id="290" name=""/>
            <p:cNvSpPr/>
            <p:nvPr/>
          </p:nvSpPr>
          <p:spPr>
            <a:xfrm>
              <a:off x="4335480" y="16002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喜欢指使男人做事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32240" y="9144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视力不好又不肯戴眼镜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67760" y="304920"/>
              <a:ext cx="33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粉涂得太厚，流汗时露出马脚的女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21080" y="220968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假天真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06224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girl13" descr="girl13.gif (34729 bytes)"/>
          <p:cNvPicPr/>
          <p:nvPr/>
        </p:nvPicPr>
        <p:blipFill>
          <a:blip r:embed="rId1"/>
          <a:stretch/>
        </p:blipFill>
        <p:spPr>
          <a:xfrm>
            <a:off x="4038480" y="2971800"/>
            <a:ext cx="10670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609480" y="228600"/>
            <a:ext cx="2590560" cy="685800"/>
            <a:chOff x="609480" y="228600"/>
            <a:chExt cx="2590560" cy="6858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1142640" y="228600"/>
              <a:ext cx="2057400" cy="685800"/>
              <a:chOff x="1142640" y="228600"/>
              <a:chExt cx="2057400" cy="685800"/>
            </a:xfrm>
          </p:grpSpPr>
          <p:sp>
            <p:nvSpPr>
              <p:cNvPr id="299" name=""/>
              <p:cNvSpPr/>
              <p:nvPr/>
            </p:nvSpPr>
            <p:spPr>
              <a:xfrm>
                <a:off x="114264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4264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服饰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228600" y="12193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穿西装打领带时，衣领扣一定要系好，领带的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尽量不要超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514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要别领带夹，应别在衬衣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纽扣之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3276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穿西装时衬衣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领子、袖口应露在西装外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夏天没有西装也不能将袖子卷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4417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般西装是两个扣子。应注意：扣子只系上面是正规，都不扣是潇洒；两个都系是土气，只 系下面是俗气；如果是三粒扣子，则只应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腰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第二、第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放在裤子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5181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中间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38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uibmy" descr="秦兵马俑"/>
          <p:cNvPicPr/>
          <p:nvPr/>
        </p:nvPicPr>
        <p:blipFill>
          <a:blip r:embed="rId1"/>
          <a:stretch/>
        </p:blipFill>
        <p:spPr>
          <a:xfrm>
            <a:off x="0" y="990720"/>
            <a:ext cx="186696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533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⊡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安是一片文明的沃土，距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半坡文化遗址是母系氏族繁盛时期的典型代表，岁月流逝，周离秦至，汉韵唐风，西安陆续成为十三个王朝的首都，西安是东方古老中华文明的发源地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usm" descr=""/>
          <p:cNvPicPr/>
          <p:nvPr/>
        </p:nvPicPr>
        <p:blipFill>
          <a:blip r:embed="rId2"/>
          <a:stretch/>
        </p:blipFill>
        <p:spPr>
          <a:xfrm>
            <a:off x="0" y="246852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2286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⊡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安是一座文物的宝库，拥有重点保护文物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地上遗址一万余处，出土文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件，地上的古器和地下的文物相织成一部活的历史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sm" descr=""/>
          <p:cNvPicPr/>
          <p:nvPr/>
        </p:nvPicPr>
        <p:blipFill>
          <a:blip r:embed="rId3"/>
          <a:stretch/>
        </p:blipFill>
        <p:spPr>
          <a:xfrm>
            <a:off x="0" y="246852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3765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⊡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安具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都市发展史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建都历史，如果把中华民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作一部精彩的历史剧，那么这部戏剧的一半都发生在西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走进西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23880" y="2286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828800" y="228600"/>
            <a:ext cx="655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共创一中文明校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      </a:t>
            </a: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齐建美好</a:t>
            </a:r>
            <a:r>
              <a:rPr b="0" lang="zh-CN" sz="5400" spc="-1" strike="noStrike">
                <a:solidFill>
                  <a:srgbClr val="990000"/>
                </a:solidFill>
                <a:latin typeface="Times New Roman"/>
                <a:ea typeface="华文彩云"/>
              </a:rPr>
              <a:t>102</a:t>
            </a: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3870360"/>
            <a:ext cx="47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338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j" descr="金字塔"/>
          <p:cNvPicPr/>
          <p:nvPr/>
        </p:nvPicPr>
        <p:blipFill>
          <a:blip r:embed="rId1"/>
          <a:stretch/>
        </p:blipFill>
        <p:spPr>
          <a:xfrm>
            <a:off x="19080" y="0"/>
            <a:ext cx="3257640" cy="205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388620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2336760"/>
            <a:ext cx="8763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‣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开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埃及首都、非洲最大城市，亦是阿拉伯世界的最大城市。重要的国际交通枢纽，在国际上具有举足轻重的作用。它地处尼罗河三角洲顶点以南，东部和西部是沉寂无垠的阿拉伯沙漠和撒哈拉沙漠。</a:t>
            </a:r>
            <a:br>
              <a:rPr sz="2400"/>
            </a:b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开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历时最久远的古城，是古代文化与现代文明、东方风情与西 方格调相融合的城市。 </a:t>
            </a:r>
            <a:br>
              <a:rPr sz="2400"/>
            </a:b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开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世界著名的文化古都。这里文物荟萃，令人神往。全城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座清真寺。那巨大的圆顶和高耸入云的尖塔随处可见，形成开罗之特色 ，使开罗有“千塔城”之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----------------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漫步开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054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yd" descr="宙斯神庙"/>
          <p:cNvPicPr/>
          <p:nvPr/>
        </p:nvPicPr>
        <p:blipFill>
          <a:blip r:embed="rId1"/>
          <a:stretch/>
        </p:blipFill>
        <p:spPr>
          <a:xfrm>
            <a:off x="0" y="0"/>
            <a:ext cx="2971800" cy="184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24080" y="1271520"/>
            <a:ext cx="5639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雅典是世界著名文化古城 ，西方文化的摇篮。雅典一名来自希腊神话中威力与智慧成果的女神雅典娜。早在公元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这里已有人定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雅典人在数学、哲学、文学、艺术、法律和科学等方面取得了辉煌的成就，为人类文化做出了巨大的贡献。故雅典被称为西方文化的源泉、人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珍珠。在这块古老的土地上，名胜古迹比比皆是，雅典犹如一座人类历史的博物馆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感受雅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054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m" descr="罗马广场"/>
          <p:cNvPicPr/>
          <p:nvPr/>
        </p:nvPicPr>
        <p:blipFill>
          <a:blip r:embed="rId1"/>
          <a:stretch/>
        </p:blipFill>
        <p:spPr>
          <a:xfrm>
            <a:off x="0" y="0"/>
            <a:ext cx="2666880" cy="206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0920" y="13842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罗马，意大利首都，世界著名的历史文化名城。罗马是世界天主教的圣地，这里大约有教堂、修道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座，还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座天主教大学。市内独立的政体梵蒂冈是天主教教皇和教廷驻地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大约在公元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这里已有罗马人居住。公元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建城，至今已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年的悠久历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3880" y="352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永恒的罗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16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240"/>
            <a:ext cx="4495680" cy="317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8320" y="3206880"/>
            <a:ext cx="44956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0"/>
            <a:ext cx="8229600" cy="70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·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职业道德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商业服务人员职业道德：文明礼貌、诚信无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公交服务人员职业道德：安全正点、方便周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医疗服务人员职业道德：救死扶伤、高度负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旅游服务人员职业道德：热情友好、不卑不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文艺工作人员职业道德：情操高尚、太放正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_x000b__x000c_"/>
              </a:rPr>
              <a:t>教育工作人员职业道德：教书育人、为人师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公用服务人员职业道德：为民着想、讲究质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体经营人员职业道德：遵纪守法、买卖公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行政执法人员职业道德：秉公执法、铁面无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工价公务人员职业道德：廉洁奉公、甘当公仆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3880" y="2590920"/>
            <a:ext cx="6400800" cy="2227320"/>
            <a:chOff x="1523880" y="2590920"/>
            <a:chExt cx="6400800" cy="2227320"/>
          </a:xfrm>
        </p:grpSpPr>
        <p:sp>
          <p:nvSpPr>
            <p:cNvPr id="77" name=""/>
            <p:cNvSpPr txBox="1"/>
            <p:nvPr/>
          </p:nvSpPr>
          <p:spPr>
            <a:xfrm>
              <a:off x="1523880" y="2590920"/>
              <a:ext cx="60199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宋体"/>
                </a:rPr>
                <a:t>用文明语 做文明人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4114800"/>
              <a:ext cx="541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华文隶书"/>
                  <a:ea typeface="华文隶书"/>
                </a:rPr>
                <a:t>--------------</a:t>
              </a:r>
              <a:r>
                <a:rPr b="1" lang="zh-CN" sz="4000" spc="-1" strike="noStrike">
                  <a:solidFill>
                    <a:srgbClr val="990000"/>
                  </a:solidFill>
                  <a:latin typeface="华文隶书"/>
                  <a:ea typeface="华文隶书"/>
                </a:rPr>
                <a:t>主题班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81640" y="30481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2:59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3:12Z</dcterms:modified>
  <cp:revision>1</cp:revision>
  <dc:subject>主题班会课件(分28大类): http://shop62905894.taobao.com</dc:subject>
  <dc:title>主题班会课件(分28大类): http://shop62905894.taobao.com</dc:title>
</cp:coreProperties>
</file>